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</p:sldIdLst>
  <p:sldSz cx="12193588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0" y="0"/>
            <a:ext cx="67608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dt" idx="70"/>
          </p:nvPr>
        </p:nvSpPr>
        <p:spPr>
          <a:xfrm>
            <a:off x="3828600" y="-360"/>
            <a:ext cx="29307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sldImg"/>
          </p:nvPr>
        </p:nvSpPr>
        <p:spPr>
          <a:xfrm>
            <a:off x="401400" y="1240920"/>
            <a:ext cx="5957640" cy="335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body"/>
          </p:nvPr>
        </p:nvSpPr>
        <p:spPr>
          <a:xfrm>
            <a:off x="676080" y="4779720"/>
            <a:ext cx="54082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ftr" idx="71"/>
          </p:nvPr>
        </p:nvSpPr>
        <p:spPr>
          <a:xfrm>
            <a:off x="0" y="9433080"/>
            <a:ext cx="2930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 type="sldNum" idx="72"/>
          </p:nvPr>
        </p:nvSpPr>
        <p:spPr>
          <a:xfrm>
            <a:off x="3828600" y="9433080"/>
            <a:ext cx="29307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11FA-38DC-4734-80B2-C9A128F864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28960" y="9433080"/>
            <a:ext cx="29307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CBC2-60CC-43ED-9E8C-EBF25DC0AF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401760" y="1241280"/>
            <a:ext cx="5957640" cy="33512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76080" y="4779720"/>
            <a:ext cx="54082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18FE-CAAE-4972-8F6F-D8107D6E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8D7-7E3C-4C72-A3FD-3A3196FD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A80A3-4AAE-4C52-ADDC-BCD2925B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FED82-26C0-4592-A625-32AAD8E6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203C8-4983-41C3-8341-29D51D6F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E36E7-7D0A-4413-AC44-883FC8B4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09D2D-AB0F-485F-A887-66C62FC6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8D974-EC11-44D4-9DF5-89C69B7A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6424C-48B1-4973-BFB0-B15621D3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06AC9-E888-45D3-9BF0-BBCA8383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E4494-3580-4BA7-8D7C-6F064465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009C3-418A-4CAF-B73A-F25F5E5B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85C-C6EA-4A1F-9259-1FADBAFE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4C901-35DF-4252-AE0B-28BCEC2A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EBE3C-CD98-45DE-A297-B73522B0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CA46F-FD38-47C2-ACF0-03DB0867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D9B09-023F-469F-8B87-BD5E16FC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D6AF3-0F42-4119-8B18-D3041176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70C69-6821-4C1E-B1EB-1B2541B0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40E7A-0EBD-48E2-B350-B74530D6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85DE7-A9B1-40BE-A11B-62DAE7B8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05A5F-5C89-4D33-A75C-059464F1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2C41D-7841-40F7-BCB0-4677C68F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C8C-20A8-4792-9F9B-D149E286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77390-3088-424F-B226-CC86B241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9B33A-29F1-4CC4-A0B9-A353AC97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2D909-1721-4D09-846F-842D2F93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92D7B-DAEB-403A-883A-383F7044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4E7E2-80B1-439D-80E6-78C66A04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88F66-B715-4B11-8526-CACBCA42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7C0B9-F504-4115-90EF-02D2200B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07D9C-150D-4399-9B9E-3FA15233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242F6-C5B2-425C-AFB0-3C83C402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14630-C647-4BD9-B11B-FFE8A167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9BD2-EED9-4412-810A-65C56B08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C3F65-6D59-4174-8E26-C9868AB5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65031-4CB9-4EE4-A77D-45AF1EF8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05BBB-66FE-45DD-8025-93719085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66F70-16C5-404A-961F-A6E5D853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96AF1-935B-4776-A0C2-FA470B4F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2FB86-B50C-4118-B683-BCE1F265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DC186-259A-4469-854C-5759E551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AFD22-1E20-4934-9398-32C54CC9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57E2D-473E-4968-9771-EB33AAAC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72169-468C-43DD-AAE1-27888039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2B35-4D73-49B7-AEDB-F84D56C7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9E116-3FAB-4CE9-BC7D-3E90A955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35A64-B204-4951-BDE0-495C1AE5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860C2-CBD4-428F-AC98-1EC1B340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76B15-1CF8-429E-9354-F6B7F068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C9D07-8751-4EF0-BE5F-1509E390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CDEE4-26E9-4CA1-93BB-69F2C78D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B7968-207D-47AA-89D1-44B8EC4A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AD495-3006-4C94-A669-6E2D73FD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47B34-3943-4DE4-BB22-53FE4193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E418F-4779-4F51-9F4E-D4DE1AC4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C2B2-CD83-4178-8088-D35D5C0C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A2F83-8409-486F-AB8D-E6779B03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CC61C-48A6-4719-BBC9-83D34848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78503-1C67-47F6-83B3-B42B0EE9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F22E3-9AF7-497F-8D1D-C2707738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E4E46-13FD-4857-9995-DB0AB198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21FF9-46E9-4D58-90D4-7CAECF84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0F96B-0C95-49BC-AAF5-834CB906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8B429-06A8-45BD-93E2-18C35572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BF5FF-A690-48EA-850B-360A7949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DF4AA0-619B-4B92-99ED-2AC72F40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D94F-F951-442F-AB04-F75DDD79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621D1-3E50-47BB-B7A5-AF7DF1F2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80816-F075-42AD-81D4-E6ED6A37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5D4013-8BBD-4B6E-82D5-7CB4281C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510FF-0E60-4911-A696-2B00EBC3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519E1-3B2B-4FF5-BBF9-62CA2BD2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D6FBF-CC9D-475F-B504-BDC954E0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ACE28-8AA5-4762-A41F-9886F538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09A81-DA9A-4AD9-9321-7BE99747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3172B-930B-40BA-9351-6C81827E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54786C-C96B-4C16-8E00-54B4062A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46F2-F1FF-46C5-BC02-E1DF4884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25C3C1-67CB-47D4-AEE9-F5388DC6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82AEC7-D1ED-4868-BC81-89CEE3C8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63B56-4521-4686-AE78-9474C52C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12D869-B0C2-44BB-B9FD-3AD6DF88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8A2A3C-4738-4D36-8F1A-0CA6174F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39802C-CBC6-46EF-BF77-22CAE4FD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EB3C0-889E-4377-AF6B-E36825D8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52C770-F7A4-43C9-971C-6C09EDB1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38EBC5-8F5D-4BF9-BFBB-7DA4ADB6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ADD021-9EC4-4B17-A44C-CFEC408B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5918-6C63-48C8-ADD7-F010B5AC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C371A9-F312-46C4-83E9-6BBE6A0C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4E94C7-AB43-4579-95B5-DB724267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985A82-B445-4D88-BA8E-3BAEB7CD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EA7E10-8BFE-42B0-9F71-371005AA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5E59B7-9634-45FF-81A9-EB529E02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BF0701-D712-4957-AE3D-EA3564D3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F5BB8A-57B1-40ED-A749-56D3FE2E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EDA5E7-76E6-4F5D-B154-448407B2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0B1410-6132-4112-8507-B3197E88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A6E81F-455A-4785-B539-488E94B6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8294-0D57-49A9-BA9A-813337B1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F437A-5CF9-4A53-B0A6-4357A7C3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A1E12-B284-4A7E-B4EE-2FEAE444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5DF36A-7353-4F04-877D-15C3A4C7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D3169-6003-4DB7-B2AF-8BE30EAB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84101-0AEA-4B89-B8C4-D097D375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E11D37-76EC-4624-8E20-64309DDD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8F6536-9672-4B3F-A948-0221AF03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BFA5EE-1CBA-419F-83E8-3A1075BE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B21916-7FBC-4DC9-9A91-1FF74828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521C94-F806-4E3F-8BCE-C1E3E4EA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762-E5F2-4716-98FA-08AE587C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6105-7454-4464-9532-E1728DB1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9344CC-900A-4966-BB78-D32354F4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723594-3660-4384-AB1D-DCBA2A76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862032-C32D-486D-9738-D475266E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C45A0-305A-4DEB-B823-7CFB09BF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8E01B2-0992-4EC3-B1B2-EEAFBDCD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140BA7-342D-464F-BBA3-9DCFBC94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4DB9D6-9518-465A-8CF8-4A0AF276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5EF825-892D-42E8-949B-43985F9F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7E6C00-1A65-4918-8F37-98BE1EF8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ACF385-1AF6-4999-988B-776E2CDE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D9F8-3486-4153-B498-3040F1B9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EF59D-25FC-406E-8F6D-1107BA58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069756-3CB6-48CE-85CE-D137DD36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F7E641-342E-4410-BE24-CCC0082C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D97355-A62C-4D5D-8A30-90C53A32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A2879B-2DC0-496E-9673-85E229E6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1FE76E-885C-41E8-90EE-27EEDA33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0D2391-7286-4EE8-9D9C-B02A2B0D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182F86-0111-44D4-912A-70C71F3F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B9AEE0-AF38-49D0-9221-18A342C6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23A9A1-35C2-406B-94D4-85301E0D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F28F-F8D3-43B4-BF1D-EA6E211A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FA85D6-C2A3-4172-9204-6FB1307A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4D0C3A-1A71-4415-96A4-D7902F55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47D658-6654-42AB-9BB8-8C0C5767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833F06-08B1-4C9B-B008-B094E230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A23619-FEBE-46D5-925C-B84EA61E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6865F0-4282-4A14-B7CE-3A845491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FB1822-2EC8-4D90-A963-D456940A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3381BB-6C8E-4004-98B7-3AE4E1D4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8AC14D-4BD7-44D5-BDA6-20CDC601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7AFBA2-FD30-41A8-B467-5DB7369B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20DF-2939-4911-B083-07F7F072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BA2918-8826-470F-9571-84E47C26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A41973-6BC5-417B-9788-7378B5D4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4F9330-2AC0-4319-8694-AD70FE82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FE60CF-F4CE-4F1E-A0CD-1528DE17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62FB93-2CB8-42DE-8970-D964A5E9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FD9B38-3D26-4660-92B4-37FA1F52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CCC1A3-8BE9-4B18-B447-A71C3665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4EC36F-F0D9-494A-BC55-06ECC898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99E416-A20F-4302-99D1-2271700D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85D4A9-43B3-4ED8-B4C9-5FDEE1C9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0B23-E8E6-4363-A0D8-E7E7646B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2E5F22-52F9-4F1E-BC76-7F470116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EF97EF-57A4-46AE-B313-AB41CA6A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83483B-7FFD-4187-940A-D5182BDF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540631-FF7F-4523-91E5-2330C696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8AFEF8-8651-4479-8904-8D0C7C92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A6EEB9-4130-442A-83C7-F37872E3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DAA914-3031-4460-BD39-B7F6DE30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59CBEB-54BB-4AF7-9346-DBF072BC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271412-9DA2-4BDF-8E0D-AD88E91F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716032-6C89-4387-BB1E-E691A4BA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678D63-2F23-4DE3-9337-6B0D42CA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B84429-3906-4BC8-B816-1CD2A052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97989C-5740-4D3A-8020-0A4F320A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C2F042-C010-44E4-99C2-042BFCD7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8FC136-B497-4CCF-BCA0-0822A3A9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A03E6B-1503-4147-A4FC-4F8F3831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9EF981-928C-41AC-AEFB-B6B6306B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1A79A5-1A2B-4300-A13D-2FAF2ED8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EAE63D-2264-4A33-BFEA-4B4F924C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0C1A91-0958-4FFC-A2D4-B60DB358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62DBEE-A4D9-473F-A35C-F9542F8C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A143D1-FAF4-4645-AB54-E60C63A4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6F0AA7-87B8-4F9C-A082-83B1D1CB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96B072-268A-4597-AC0D-D021E0C1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5CB738-22FC-4AEC-A0B6-9E9C0948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2BED32-9B01-4564-B1AF-AB5844BE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0CAC0A-7115-41F8-A8B6-1DCE28E3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3E0219-0681-42C8-B268-A9A56822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AF9DB7-2BFE-4158-AA66-1D69B32C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5CFF56-3BF3-40FB-8EF5-7C9F2CFC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16E921-FF4A-4F66-A147-E03AB3A5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783404-4F4A-4B64-A784-6908096F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45A658-308E-439C-A465-3CF0E4C2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AAAE95-DF62-4920-B9FD-0668E0C6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5EC8D2-3C0E-4D34-92DE-CBA07C90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778B14-7EA7-4A6D-8B62-92E96882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32935A-5781-47BC-A286-F68FE012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0EBD73-03D4-4653-83EF-877CADCB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849E2E-5980-41FC-9874-FBFAC992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AE781F-28BF-45FC-84B6-5FBB27C7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8BFED7-7C13-483A-8609-53D0C6C7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B4950C-22F7-4CEA-BDDA-1A100816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65E1D9-54CD-4CE9-9067-30D7426B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BFA030-9DE2-4B97-8958-4E5BB2A4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D63DF7-777C-437D-B8DF-BDBBEF13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67A380-48DA-47F6-89DD-9A38A09C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FDF5ED-63CF-4EDD-A1A4-2899AEF3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CE2F88-2B75-4FCE-A2CA-FF2EE309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0DB2ED-19DB-4DF7-8196-A3E91C41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9D8-B2E2-42AD-883F-EDF80475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51C6F-F6A2-4597-A92F-4E592830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207E1-D06F-4338-AF2E-41D5CE6C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3DFC0-5AC6-4720-973F-EA023B25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4D2-3678-43C4-9B98-59E9FD79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62EB9-2FAC-4FBC-936D-F0A3078E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035B2-E7A1-4CB9-A88B-5D454BAE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0EC6D-11B7-401F-AB36-735F5A97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CFED0-32FA-40A9-940C-23743B8B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6875F-0AF4-4E5B-A907-4B428E2E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462E4-74FB-491A-9C23-B5B59A9A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76B85-AE2A-4A5A-B6E2-710606F3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6ED17-8F96-40CB-ACFD-09475A6A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55F4B-5F2C-40C9-8A38-C27F6B7B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16E89-35DE-4139-8BD2-B3E63407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D28-92DE-489B-981C-88B32FA8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ECBE8-445C-4BFE-941F-73FC0661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A139E-7149-4F53-AC10-DBA4E209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5E360-F416-4048-87E6-4C4ACEFF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F2955-F198-458B-BA06-D16BB599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4DA78-7300-4E16-859D-89D5305C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1191E-B85B-4349-953A-77D8AC89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DBA8B-EB55-44C6-BCEC-302BBBDD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04789-62B7-4F9C-9BCA-2FDB69C9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61645-E96E-4CCB-8B48-5D1941E9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2AB13-0378-4A09-8363-90ABAF56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5D5-4286-4C69-8DB5-741E6DEE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EAF38-4A93-4B26-A8EA-10FD0792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AC7B8-088F-4E78-AB22-07DF46A9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FE387-5346-42AD-A6B8-16FF4C01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D2F3D-8770-441E-9D46-D608E828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60504-F6DD-44B5-990C-13B6CA1E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D90F9-7B1D-4385-ABD0-B1FB2733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F9169-B51B-42FB-B7E9-C9D20E9A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80DFE-63C0-4256-B048-CDD86871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FC773-6BEC-4099-BA91-AE627F08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6F6AB-7E7F-4D13-AE8F-58E23DA9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3D4-700D-42C9-BFEA-3E26596F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EAAB3-AD7C-4DDF-8ED8-AC3236A9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A851F-4AC9-4354-8DF4-0C0E9E34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3199C-FEED-459C-9911-11097221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68C96-C884-4079-B1CF-8B45564C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F45A8-360A-4DF7-AF17-42842D43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2B26B-3307-4920-98FB-E697E7F3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85777-399C-4B5F-9FA5-B8D5AC76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7EF45-78B2-492B-A57E-3FE99154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2782F-3C49-47FF-9ABE-502C95BF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85FB5-454A-4A71-AF50-55BE5271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3F4-C00E-4E7F-B690-4111332F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B4B19-5AB2-463C-8FE3-3636A643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7649D-DAD8-458F-A49C-D3730D8E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B99EC-68A7-4292-A495-1C05B595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DDCBD-F073-4FDF-98F2-A872FD9A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9DA1C-E4A6-418B-A495-41A26F39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8036B-1D4B-48BA-8A55-5913C994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FCA4F-CC97-4BBD-8858-8069E79E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5C312-9BA9-45ED-9C39-1323264D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A4F0B-C40B-4124-9C79-15B83773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9184D-ACE6-49CC-90C5-6B089D9A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6CC-AC8C-41D2-B358-46EF3D7C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F38C1-DC41-4313-97B7-C448771A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6D646-BB7F-4FFB-B803-3F746F6B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FA251-D6DB-44E3-A038-2CD4B502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9DB19-E4B6-4883-AEA6-64C5A240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69845-7121-443E-8802-A1025B1F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BC001-9E7C-473A-B57C-E8953D9E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7A13D-E827-4E64-90DB-3B326479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31879-C20F-4948-8283-EAA37690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45014-CAB0-4694-9AE8-64690C31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226B9-CABF-4DCB-9BA0-1149A904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DC1D-07B6-4A36-848C-DEAA961DC120}" type="slidenum">
              <a:rPr b="1" i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8A36-7383-4511-A4A5-07F5BEB6E3DB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4C6A-9AB6-4127-A334-ECF373553D0F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E4E4-DD23-4403-9A1B-592761F8E526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F375-982B-41BC-8903-6AA635EF7DDE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0AB9-BEF5-4812-872C-8D11570926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7367-1070-442A-9153-FC6416BE2C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513D-34A3-4122-8753-94A26FCA69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70D8-775B-4C6E-9A3A-28E1490887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4166-9E8E-4D41-A8FA-A79EAFAB0E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8779-3585-41FE-AC05-3414A34519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476E-3078-4F30-8D55-2CD8A73A30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83E9-C0E1-4EE7-9C9B-E2FCB79865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5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C963-EB5A-4F8C-A2A9-5A73D353B0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6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6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4BD5-B11A-488F-BE9E-5EC481D429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5D55-F16F-46CA-8B2F-4EC12BA3FD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55EB-143C-41A7-8E4E-57EBEE785A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969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A8AE-87DD-4372-90A0-8FBAB139FA28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CA23-6FDE-4CB1-8D28-7086B74C0A9D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4A4C-DE3F-4284-87D7-992E5646147E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BD2E-44BA-4B24-B976-D291D0CAD404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6144-3451-4BA2-AC18-6FAF5234529F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7D55-6495-479F-B237-47DE9CD0B8C4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Рисунок 1" descr=""/>
          <p:cNvPicPr/>
          <p:nvPr/>
        </p:nvPicPr>
        <p:blipFill>
          <a:blip r:embed="rId1"/>
          <a:stretch/>
        </p:blipFill>
        <p:spPr>
          <a:xfrm>
            <a:off x="8674200" y="4797360"/>
            <a:ext cx="1920600" cy="2048040"/>
          </a:xfrm>
          <a:prstGeom prst="rect">
            <a:avLst/>
          </a:prstGeom>
          <a:ln w="0">
            <a:noFill/>
          </a:ln>
        </p:spPr>
      </p:pic>
      <p:sp>
        <p:nvSpPr>
          <p:cNvPr id="990" name="Text Box 6"/>
          <p:cNvSpPr/>
          <p:nvPr/>
        </p:nvSpPr>
        <p:spPr>
          <a:xfrm>
            <a:off x="4203720" y="58975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2719440" y="135000"/>
          <a:ext cx="6696000" cy="70164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cd5b5"/>
                          </a:solidFill>
                          <a:latin typeface="Arial"/>
                        </a:rPr>
                        <a:t>БЮРО СУДЕБНО-МЕДИЦИНСКОЙ ЭКСПЕРТИЗЫ МОСКОВСКОЙ ОБЛАСТИ</a:t>
                      </a:r>
                      <a:r>
                        <a:rPr b="1" lang="en-US" sz="1800" spc="-1" strike="noStrike">
                          <a:solidFill>
                            <a:srgbClr val="fcd5b5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fcd5b5"/>
                          </a:solidFill>
                          <a:latin typeface="Arial"/>
                        </a:rPr>
                        <a:t>ГБУЗ МО «Бюро СМЭ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3735"/>
                    </a:solidFill>
                  </a:tcPr>
                </a:tc>
              </a:tr>
            </a:tbl>
          </a:graphicData>
        </a:graphic>
      </p:graphicFrame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704600" y="1341360"/>
            <a:ext cx="871236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ЕЗУЛЬТАТЫ ТЕМАТИЧЕСКОЙ ПРОВЕРКИ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Актов судебно-медицинских исследований (Заключений эксперта) в случаях смерти от новообразований </a:t>
            </a:r>
            <a:br>
              <a:rPr sz="2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ЗА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1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ОЛУГОДИЕ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2015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ОДА</a:t>
            </a:r>
            <a:br>
              <a:rPr sz="2800"/>
            </a:b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Схема 3" descr=""/>
          <p:cNvPicPr/>
          <p:nvPr/>
        </p:nvPicPr>
        <p:blipFill>
          <a:blip r:embed="rId2"/>
          <a:stretch/>
        </p:blipFill>
        <p:spPr>
          <a:xfrm>
            <a:off x="3090960" y="5735520"/>
            <a:ext cx="6046560" cy="757440"/>
          </a:xfrm>
          <a:prstGeom prst="rect">
            <a:avLst/>
          </a:prstGeom>
          <a:ln w="0">
            <a:noFill/>
          </a:ln>
        </p:spPr>
      </p:pic>
      <p:sp>
        <p:nvSpPr>
          <p:cNvPr id="994" name="Прямоугольник 6"/>
          <p:cNvSpPr/>
          <p:nvPr/>
        </p:nvSpPr>
        <p:spPr>
          <a:xfrm>
            <a:off x="0" y="4091040"/>
            <a:ext cx="12192120" cy="1498680"/>
          </a:xfrm>
          <a:prstGeom prst="rect">
            <a:avLst/>
          </a:prstGeom>
          <a:solidFill>
            <a:srgbClr val="4f81bd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С.А. Жулин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врач организационно-методического отдел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Зав. Красногорским СМ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ГБУЗ МО «Бюро судебно-медицинской экспертизы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шибки в оформлении судебно-медицинского диагн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4" name="Объект 5"/>
          <p:cNvGraphicFramePr/>
          <p:nvPr/>
        </p:nvGraphicFramePr>
        <p:xfrm>
          <a:off x="787320" y="2013120"/>
          <a:ext cx="10617120" cy="44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2013120"/>
                    <a:ext cx="10617120" cy="44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6" name="Прямоугольник 6"/>
          <p:cNvSpPr/>
          <p:nvPr/>
        </p:nvSpPr>
        <p:spPr>
          <a:xfrm>
            <a:off x="4530600" y="1600200"/>
            <a:ext cx="6823080" cy="305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новные ошибки, выявленные в ходе проверк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верный (необоснованный) выбор основной нозологической единиц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сутствие гистологической характеристики злокачественного новообразован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сутствие рубрификации диагноза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кращение, обобщение основных морфологических проявлений (неполнота диагноз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сутствие морфологических проявлений таких осложнений как «интоксикация», «печеночно-почечная недостаточность»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сутствие в диагнозе сведений о проведенных хирургических операциях по поводу новообразован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несение метастазов в рубрику «осложнения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шибки в заключении о причине смер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8" name="Объект 5"/>
          <p:cNvGraphicFramePr/>
          <p:nvPr/>
        </p:nvGraphicFramePr>
        <p:xfrm>
          <a:off x="558720" y="1549440"/>
          <a:ext cx="110743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549440"/>
                    <a:ext cx="110743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0" name="Прямоугольник 6"/>
          <p:cNvSpPr/>
          <p:nvPr/>
        </p:nvSpPr>
        <p:spPr>
          <a:xfrm>
            <a:off x="4551480" y="1409760"/>
            <a:ext cx="6691320" cy="28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ошибки, выявленные в ходе провер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сутствие непосредственной причины смерти (смертельного осложнения) в вывода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сутствие указания на конкретную нозологическую единицу (основную причину смерти) в вывода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обоснованная непосредственная причина смерти (не соответствующая отмеченным морфологическим признакам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09480" y="96480"/>
            <a:ext cx="10972800" cy="2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Прямоугольник 4"/>
          <p:cNvSpPr/>
          <p:nvPr/>
        </p:nvSpPr>
        <p:spPr>
          <a:xfrm>
            <a:off x="430200" y="574560"/>
            <a:ext cx="11761920" cy="61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изводство судебно-медицинских экспертиз (исследований) трупов при смерти от новообразований в ряде случаев  проводится с существенными недостатками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повышения качества судебно-медицинских исследований трупов в случаях смерти от злокачественных новообразований необходимо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ваться предоставления первичной информации о новообразовании, медицинском наблюдении до начала исследования трупа (работа с правоохранительными органами, назначающими исследование трупа, с медицинскими организациями – поликлиниками – предоставление медицинских карт амбулаторного больного с заполненным посмертным эпикризом до начала исследования трупа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порядка производства судебно-медицинских экспертиз в государственных судебно-медицинских учреждениях, утвержденного приказом №346н Министерства Здравоохранения РФ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ценное описание наружных и внутренних макроскопических признаков для обоснования основной и непосредственной причин смерти (прицельное описание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злокачественного новообразования (локализация, форма, размеры, цвет, плотность, прорастание в окружающие ткани, метастазов, регионарных и отдаленных лимфатических узлов, наличие некрозов и кровоизлияний в новообразованиях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ый набор материала для гистологического исследования, обязательное проведение гистологического исследования для определения морфологической характеристики новообразования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ный выбор причин смерти при заполнении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ого свидетельства о смерти; обоснованный выбор кода МКБ-10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ное построение судебно-медицинского диагноза, обоснованное построение вывода о причине смерти, включающего основную и непосредственную причину смерти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Рисунок 1" descr=""/>
          <p:cNvPicPr/>
          <p:nvPr/>
        </p:nvPicPr>
        <p:blipFill>
          <a:blip r:embed="rId1"/>
          <a:stretch/>
        </p:blipFill>
        <p:spPr>
          <a:xfrm>
            <a:off x="6815160" y="1173240"/>
            <a:ext cx="3938400" cy="5398920"/>
          </a:xfrm>
          <a:prstGeom prst="rect">
            <a:avLst/>
          </a:prstGeom>
          <a:ln w="0">
            <a:noFill/>
          </a:ln>
        </p:spPr>
      </p:pic>
      <p:pic>
        <p:nvPicPr>
          <p:cNvPr id="1034" name="Рисунок 2" descr=""/>
          <p:cNvPicPr/>
          <p:nvPr/>
        </p:nvPicPr>
        <p:blipFill>
          <a:blip r:embed="rId2"/>
          <a:stretch/>
        </p:blipFill>
        <p:spPr>
          <a:xfrm>
            <a:off x="1374840" y="1170000"/>
            <a:ext cx="3781440" cy="5400720"/>
          </a:xfrm>
          <a:prstGeom prst="rect">
            <a:avLst/>
          </a:prstGeom>
          <a:ln w="0">
            <a:noFill/>
          </a:ln>
        </p:spPr>
      </p:pic>
      <p:sp>
        <p:nvSpPr>
          <p:cNvPr id="1035" name="Прямоугольник 3"/>
          <p:cNvSpPr/>
          <p:nvPr/>
        </p:nvSpPr>
        <p:spPr>
          <a:xfrm>
            <a:off x="1808280" y="152280"/>
            <a:ext cx="8381880" cy="90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уководства и справочники по построению диагно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8" descr="D:\RADUGA_DESIGN\Выставка_КрокусСити_21_24\Правительство Москвы\Spolohi 02 Correct\Spolohi 02 Correct_opasity.png"/>
          <p:cNvPicPr/>
          <p:nvPr/>
        </p:nvPicPr>
        <p:blipFill>
          <a:blip r:embed="rId1"/>
          <a:stretch/>
        </p:blipFill>
        <p:spPr>
          <a:xfrm>
            <a:off x="1735200" y="-7318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7" name="Заголовок 1" descr=""/>
          <p:cNvPicPr/>
          <p:nvPr/>
        </p:nvPicPr>
        <p:blipFill>
          <a:blip r:embed="rId2"/>
          <a:stretch/>
        </p:blipFill>
        <p:spPr>
          <a:xfrm>
            <a:off x="1523880" y="1127160"/>
            <a:ext cx="9144000" cy="5730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Y:\D\правила\Книга идентификация\business_people_03.tif"/>
          <p:cNvPicPr/>
          <p:nvPr/>
        </p:nvPicPr>
        <p:blipFill>
          <a:blip r:embed="rId3"/>
          <a:stretch/>
        </p:blipFill>
        <p:spPr>
          <a:xfrm>
            <a:off x="1633680" y="4870440"/>
            <a:ext cx="1670040" cy="1779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1" descr=""/>
          <p:cNvPicPr/>
          <p:nvPr/>
        </p:nvPicPr>
        <p:blipFill>
          <a:blip r:embed="rId4"/>
          <a:stretch/>
        </p:blipFill>
        <p:spPr>
          <a:xfrm>
            <a:off x="0" y="-27000"/>
            <a:ext cx="12192120" cy="1171440"/>
          </a:xfrm>
          <a:prstGeom prst="rect">
            <a:avLst/>
          </a:prstGeom>
          <a:ln w="0">
            <a:noFill/>
          </a:ln>
        </p:spPr>
      </p:pic>
      <p:sp>
        <p:nvSpPr>
          <p:cNvPr id="1040" name="Прямоугольник 1"/>
          <p:cNvSpPr/>
          <p:nvPr/>
        </p:nvSpPr>
        <p:spPr>
          <a:xfrm>
            <a:off x="3865680" y="5310360"/>
            <a:ext cx="6410160" cy="1172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Жулин С.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аведующий Красногорским судебно-медицинским отделением ГБУЗ МО «Бюро СМЭ»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рач судебно-медицинский эксперт организационно-методического отдела ГБУЗ МО «Бюро СМЭ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zhulin@sudmedmo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Прямоугольник 3"/>
          <p:cNvSpPr/>
          <p:nvPr/>
        </p:nvSpPr>
        <p:spPr>
          <a:xfrm>
            <a:off x="0" y="200160"/>
            <a:ext cx="6846840" cy="76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54061"/>
                </a:solidFill>
                <a:latin typeface="Times New Roman"/>
                <a:ea typeface="Calibri"/>
              </a:rPr>
              <a:t>  </a:t>
            </a: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13 мая 2015 го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в ГБУЗ МО «Бюро СМЭ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издано распоряж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о выборочной тематической проверк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Актов судебно-медицинск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исследования труп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(Заключений эксперт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за 2015 год в случаях смер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от новообразова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Рисунок 1"/>
          <p:cNvSpPr/>
          <p:nvPr/>
        </p:nvSpPr>
        <p:spPr>
          <a:xfrm>
            <a:off x="0" y="820800"/>
            <a:ext cx="521496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Group 6"/>
          <p:cNvGrpSpPr/>
          <p:nvPr/>
        </p:nvGrpSpPr>
        <p:grpSpPr>
          <a:xfrm>
            <a:off x="6753240" y="0"/>
            <a:ext cx="5438880" cy="6858000"/>
            <a:chOff x="6753240" y="0"/>
            <a:chExt cx="5438880" cy="6858000"/>
          </a:xfrm>
        </p:grpSpPr>
        <p:sp>
          <p:nvSpPr>
            <p:cNvPr id="998" name="AutoShape 5"/>
            <p:cNvSpPr/>
            <p:nvPr/>
          </p:nvSpPr>
          <p:spPr>
            <a:xfrm>
              <a:off x="6753240" y="163800"/>
              <a:ext cx="5438880" cy="66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9" name="Picture 7" descr=""/>
            <p:cNvPicPr/>
            <p:nvPr/>
          </p:nvPicPr>
          <p:blipFill>
            <a:blip r:embed="rId1"/>
            <a:srcRect l="6556" t="3249" r="5179" b="8205"/>
            <a:stretch/>
          </p:blipFill>
          <p:spPr>
            <a:xfrm>
              <a:off x="6753240" y="0"/>
              <a:ext cx="514548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 txBox="1"/>
          <p:nvPr/>
        </p:nvSpPr>
        <p:spPr>
          <a:xfrm>
            <a:off x="838080" y="151920"/>
            <a:ext cx="10515600" cy="65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 выборочную тематическую проверку было представлено 135 Актов судебно-медицинского исследования трупа (Заключений эксперта) в случаях смерти от злокачественных новообразований и 6 Актов судебно-медицинского исследования трупа (Заключений эксперта) в случаях смерти от доброкачественных новообразований. При проверке учитывались следующие критерии качества судебно-медицинских исследован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соответствие составленного экспертного документа (Акта судебно-медицинского исследования трупа, Заключения эксперта) – нормативно-правовым документам,  требованиям организационно-методического отдела ГБУЗ МО «Бюро СМЭ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соответствие перечня материалов представленных эксперту (изученных) – перечню материалов в направительном документе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изучение медицинских документов, материалов проверк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бота с медицинским документами, внесение сведений из них в акт судебно-медицинского исследования трупа (заключение эксперт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качество наружного исследования трупа (соответствие трупных явлений – известному времени наступления смерти; описание периферических лимфоузлов; новообразований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качество внутреннего исследования трупа (прицельное описание новообразований, регионарных лимфоузлов, прицельное описание тканей в зоне проведенных операций по удалению новообразований;  полнота описания макроскопической картины осложнений новообразований; полнота направления материала для гистологического исследования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данные медицинского свидетельства о смерти (соответствие указанной причины смерти в МСС проведенному исследований, патогенетическая последовательность указанных причин смерти в пункте 19 МСС, соответствие кода МКБ-10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олнота и обоснованность судебно-медицинского диагноза (соответствие проведенному исследованию трупа, наличие гистологической характеристики новообразова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обоснованность заключения о причине смерти, указание основной и непосредственной причин смерти в заключени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7" descr=""/>
          <p:cNvPicPr/>
          <p:nvPr/>
        </p:nvPicPr>
        <p:blipFill>
          <a:blip r:embed="rId1"/>
          <a:stretch/>
        </p:blipFill>
        <p:spPr>
          <a:xfrm>
            <a:off x="1071720" y="1160640"/>
            <a:ext cx="4614840" cy="53812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09480" y="140760"/>
            <a:ext cx="109728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личество случаев смерти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 злокачественных ново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8" descr=""/>
          <p:cNvPicPr/>
          <p:nvPr/>
        </p:nvPicPr>
        <p:blipFill>
          <a:blip r:embed="rId2"/>
          <a:srcRect l="0" t="2829" r="0" b="0"/>
          <a:stretch/>
        </p:blipFill>
        <p:spPr>
          <a:xfrm>
            <a:off x="5900760" y="1219320"/>
            <a:ext cx="521964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1097280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учение медицинских документов в случаях смерти от злокачественных новообразований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Picture 7" descr=""/>
          <p:cNvPicPr/>
          <p:nvPr/>
        </p:nvPicPr>
        <p:blipFill>
          <a:blip r:embed="rId1"/>
          <a:stretch/>
        </p:blipFill>
        <p:spPr>
          <a:xfrm>
            <a:off x="331920" y="1195560"/>
            <a:ext cx="2971800" cy="548640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8" descr=""/>
          <p:cNvPicPr/>
          <p:nvPr/>
        </p:nvPicPr>
        <p:blipFill>
          <a:blip r:embed="rId2"/>
          <a:srcRect l="0" t="0" r="12309" b="0"/>
          <a:stretch/>
        </p:blipFill>
        <p:spPr>
          <a:xfrm>
            <a:off x="3282840" y="1717560"/>
            <a:ext cx="4008600" cy="39560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9" descr=""/>
          <p:cNvPicPr/>
          <p:nvPr/>
        </p:nvPicPr>
        <p:blipFill>
          <a:blip r:embed="rId3"/>
          <a:srcRect l="4836" t="0" r="16026" b="0"/>
          <a:stretch/>
        </p:blipFill>
        <p:spPr>
          <a:xfrm>
            <a:off x="7338960" y="1428840"/>
            <a:ext cx="455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109728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учения материалов проверки в случаях смерти от злокачественных новообразований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Диаграмма 7" descr=""/>
          <p:cNvPicPr/>
          <p:nvPr/>
        </p:nvPicPr>
        <p:blipFill>
          <a:blip r:embed="rId1"/>
          <a:stretch/>
        </p:blipFill>
        <p:spPr>
          <a:xfrm>
            <a:off x="0" y="914400"/>
            <a:ext cx="3187800" cy="6119640"/>
          </a:xfrm>
          <a:prstGeom prst="rect">
            <a:avLst/>
          </a:prstGeom>
          <a:ln w="0">
            <a:noFill/>
          </a:ln>
        </p:spPr>
      </p:pic>
      <p:pic>
        <p:nvPicPr>
          <p:cNvPr id="1010" name="Диаграмма 8" descr=""/>
          <p:cNvPicPr/>
          <p:nvPr/>
        </p:nvPicPr>
        <p:blipFill>
          <a:blip r:embed="rId2"/>
          <a:stretch/>
        </p:blipFill>
        <p:spPr>
          <a:xfrm>
            <a:off x="2908440" y="1420920"/>
            <a:ext cx="5857560" cy="5145120"/>
          </a:xfrm>
          <a:prstGeom prst="rect">
            <a:avLst/>
          </a:prstGeom>
          <a:ln w="0">
            <a:noFill/>
          </a:ln>
        </p:spPr>
      </p:pic>
      <p:pic>
        <p:nvPicPr>
          <p:cNvPr id="1011" name="Диаграмма 9" descr=""/>
          <p:cNvPicPr/>
          <p:nvPr/>
        </p:nvPicPr>
        <p:blipFill>
          <a:blip r:embed="rId3"/>
          <a:stretch/>
        </p:blipFill>
        <p:spPr>
          <a:xfrm>
            <a:off x="7394400" y="1438200"/>
            <a:ext cx="45720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фекты протокольных частей (наружное и внутреннее исследование труп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3" name="Объект 6"/>
          <p:cNvGraphicFramePr/>
          <p:nvPr/>
        </p:nvGraphicFramePr>
        <p:xfrm>
          <a:off x="558720" y="1549440"/>
          <a:ext cx="110743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549440"/>
                    <a:ext cx="110743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5" name="Прямоугольник 7"/>
          <p:cNvSpPr/>
          <p:nvPr/>
        </p:nvSpPr>
        <p:spPr>
          <a:xfrm>
            <a:off x="4756320" y="1801800"/>
            <a:ext cx="7043400" cy="3027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новные дефекты, установленные в ходе тематической проверк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соответствие трупных явлений при достоверно известном времени наступления смерт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чное описание признаков, свидетельствующих о непосредственной причине смерти, в том числе кахексии, малокровии, желтухе, интоксикаци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чное описание злокачественного новообразования (локализация, форма, размеры, цвет, плотность, прорастание в окружающие ткани, наличие некрозов и кровоизлияний в новообразовани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сутствие описания регионарных и отдаленных лимфатических узл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10972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ведение гистологических исследованиях в случаях смерти от злокачественных новообразований 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Диаграмма 7" descr=""/>
          <p:cNvPicPr/>
          <p:nvPr/>
        </p:nvPicPr>
        <p:blipFill>
          <a:blip r:embed="rId1"/>
          <a:stretch/>
        </p:blipFill>
        <p:spPr>
          <a:xfrm>
            <a:off x="255600" y="1371600"/>
            <a:ext cx="2871720" cy="4840200"/>
          </a:xfrm>
          <a:prstGeom prst="rect">
            <a:avLst/>
          </a:prstGeom>
          <a:ln w="0">
            <a:noFill/>
          </a:ln>
        </p:spPr>
      </p:pic>
      <p:pic>
        <p:nvPicPr>
          <p:cNvPr id="1018" name="Диаграмма 8" descr=""/>
          <p:cNvPicPr/>
          <p:nvPr/>
        </p:nvPicPr>
        <p:blipFill>
          <a:blip r:embed="rId2"/>
          <a:stretch/>
        </p:blipFill>
        <p:spPr>
          <a:xfrm>
            <a:off x="3054240" y="1146240"/>
            <a:ext cx="4578480" cy="5175360"/>
          </a:xfrm>
          <a:prstGeom prst="rect">
            <a:avLst/>
          </a:prstGeom>
          <a:ln w="0">
            <a:noFill/>
          </a:ln>
        </p:spPr>
      </p:pic>
      <p:pic>
        <p:nvPicPr>
          <p:cNvPr id="1019" name="Диаграмма 9" descr=""/>
          <p:cNvPicPr/>
          <p:nvPr/>
        </p:nvPicPr>
        <p:blipFill>
          <a:blip r:embed="rId3"/>
          <a:stretch/>
        </p:blipFill>
        <p:spPr>
          <a:xfrm>
            <a:off x="7778880" y="1279440"/>
            <a:ext cx="413856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шибки в медицинских свидетельствах о смерти в случаях злокачественных ново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1" name="Диаграмма 5"/>
          <p:cNvGraphicFramePr/>
          <p:nvPr/>
        </p:nvGraphicFramePr>
        <p:xfrm>
          <a:off x="1106640" y="1360440"/>
          <a:ext cx="10617120" cy="539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2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1360440"/>
                    <a:ext cx="1061712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06:24:11Z</dcterms:created>
  <dc:creator>КУЧУК</dc:creator>
  <dc:description/>
  <dc:language>en-US</dc:language>
  <cp:lastModifiedBy>Сергей</cp:lastModifiedBy>
  <dcterms:modified xsi:type="dcterms:W3CDTF">2015-10-13T20:58:36Z</dcterms:modified>
  <cp:revision>229</cp:revision>
  <dc:subject/>
  <dc:title>Анализ причин смерти по данным БЮРО СУДЕБНО-МЕДИЦИНСКОЙ ЭКСПЕРТИЗЫ МОСКОВСКОЙ ОБЛАСТИ  за 9 месяцев 2014 ГОДа</dc:title>
</cp:coreProperties>
</file>